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1BF-3CB4-4161-89E8-8C2B0CF94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885-0FF8-43B6-B756-106DF373D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storm annotation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B33A-10EA-48B6-816D-48ECBA7A5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FB8-ED51-4E7C-8347-0964AD7C7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108-0D27-4907-BDAC-35E9BB69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9F2-33FE-47A0-9F34-E88D221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C01-9215-4D50-B041-1A8C7446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742-8346-482D-8DAD-35CC349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224D-0530-4D51-9F74-6E88EF2F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4ADF-134D-4E61-BB4B-90F9BF42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F80-512F-4949-ACEC-E584119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4332-4071-4CE0-966B-E71E244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B00-DC43-4023-999F-CBF23240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12F3-A33D-424B-9A5C-BEAF3A7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8E1-04BB-4E08-BCB2-F641227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5CE-4CD8-47C8-BF78-DF76455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564-E327-4B38-83FF-55B5070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7F73-38FB-4BC8-91D0-3F35216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035F-49BB-4470-93EB-83273DD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CC9-5759-4F97-978E-618790DF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9737-AB04-47B6-98FA-A5C034FF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BB94-66A4-49C4-A0E2-1C66C86E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EE30-6059-4821-8249-DF55E16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CF70-B25B-4A72-8EEA-672D1E2B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7C28-49CD-46D2-A005-DDFA794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78B4-DAD0-4706-A949-2CB7954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A4D-67E6-4CB3-9D41-1C56874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A9DF-403A-48E6-B364-57F451B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73DB-9737-45ED-82C5-FEE8FFB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6D5D-BDE8-444E-BADA-6FBC09F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D928-0E5A-47EF-8D66-8234DAA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73C7-BCDF-441F-99F3-7113562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6665-ABFE-4A29-AEBE-2F69F1D5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E3C1-DDE3-4919-BE2C-09585131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D8072-9B96-4D27-BA28-1EED89C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FC4F-AF69-41C5-B9B6-7D0BC37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3C84-5695-41AE-984B-322783D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731-759A-46CD-A263-070AF077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3F71-2149-4984-AB69-24F4C15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D418-D620-41B2-A4E6-5864F40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92F6-9F49-4312-A343-A5B60A0F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310C-3923-459F-9057-1E90A6E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57A1-E692-43DB-A118-6B224AC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FEFF-D3F3-4058-AAC7-7B1A8B3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B845-C31F-41C2-9E3F-D867FE11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B110-70B3-4A67-9714-99987521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5D98-140A-4FB9-A816-C03553F1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AADD-871A-4400-ABBE-54291C6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122-AAE1-4AA4-835C-157481F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5868-5F44-4140-80B6-704BAD7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7586-EB29-4D2E-855C-2711EDC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F37D-5C72-47C8-ADF2-23D2952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F1D8-C2AD-4E5C-8495-95E0D67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5709-FA1F-44DC-8B6D-B41FA1A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08C1-C895-4932-86AB-534C662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4CDA-1FA8-425E-AD79-A758028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AC24-C724-400A-B7D8-6233754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B2CC-55C6-4605-8C45-4F68D7C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AE05-C472-4107-89E7-5922010E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126-167D-4E16-82C1-A014071A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66EC-0DA5-4C59-BFBA-9EF67830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757-BD79-42AB-A9E2-31214023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548-7E21-4725-92A8-518D6F7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A48-EB6F-4F5E-99BA-97BDDF1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077-96FB-45B6-BDFE-3D30F1CD75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00E-22B7-4D94-B728-06810DC991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0AB-382D-45FD-9187-13F3818C6C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A46E-CD24-42E3-A91D-E18E050C6171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35C7-1D27-4C74-8D7B-22C197F78C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WRITING TO LEAR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INCOLN SMALL GROUP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APRIL 18, 2012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FLECTION ON STUDENT WORK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worked or what were you pleased with and why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would you change and why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OVING TO A DEEPER LEVE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makes a writing opportunity meaningful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expectations do you have for the writing students do for you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47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-How do you communicate those expectations to your students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288000"/>
            <a:ext cx="752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8080" y="10666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ransition your students from 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bsorbing information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or a text to 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responding in a meaningful way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Lower level thinking to higher level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990720" y="3429000"/>
            <a:ext cx="6933960" cy="603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0" autoRev="1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914400"/>
            <a:ext cx="75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-Read excerpts from Angela Peery’s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Writing Matter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*what could you annotate while reading this selection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-information about writing and students, ideas for writing, MVP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*how could you annotate these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ROM LOWER LEVEL TO HIGHER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. Remember/Recall- (graphic organizer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. Understand- (graphic organizer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. Analyze/Evaluate- (written response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FOR NEXT TIME (APRIL 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Medium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ring back a piece of writing that you feel is a meaningful writing opportunity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ring back a plan for this kind of meaningful writing opportun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2:18Z</dcterms:created>
  <dc:creator>Curto, Sara</dc:creator>
  <dc:description/>
  <dc:language>en-US</dc:language>
  <cp:lastModifiedBy>Curto, Sara</cp:lastModifiedBy>
  <dcterms:modified xsi:type="dcterms:W3CDTF">2012-04-09T16:28:12Z</dcterms:modified>
  <cp:revision>13</cp:revision>
  <dc:subject/>
  <dc:title>Writing to Learn Lincoln Small Group</dc:title>
</cp:coreProperties>
</file>